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3.png" ContentType="image/png"/>
  <Override PartName="/ppt/media/image12.jpeg" ContentType="image/jpeg"/>
  <Override PartName="/ppt/media/image6.wmf" ContentType="image/x-wmf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5CF-5175-4FA2-AE66-96FFAF5F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C2C-ED96-4B69-985D-24A05B4C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FE1-5D87-493D-8C2B-91C6B6D1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219-E9A2-4D6B-8974-A6DE562E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7A6-9B18-4099-BB66-D808F935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58A-41A4-42DF-A03A-CDEF8B75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648-FB5A-421B-9336-276D111B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7AD-408A-4A27-8F7D-A08BC5E1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B0D-4294-4E98-941D-9BF39A5D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899-2F81-4683-ADCE-E4DB6F0B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EDE-EB41-46A2-A2D8-DF29EFB6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A15-EA42-4EE9-9E11-096A2795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789F-538B-4314-8CD7-AAB3894598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8436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ynchronous Buck Converter Design for Digital Circuit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429000" y="400068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ng 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8-12-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ck DC-DC converter with P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"/>
          <p:cNvGraphicFramePr/>
          <p:nvPr/>
        </p:nvGraphicFramePr>
        <p:xfrm>
          <a:off x="142920" y="2214720"/>
          <a:ext cx="9205920" cy="42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2214720"/>
                    <a:ext cx="920592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ady-state PFM wave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28800" y="1928880"/>
            <a:ext cx="746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4" descr="12.3_buck_full_sche2.jpeg"/>
          <p:cNvPicPr/>
          <p:nvPr/>
        </p:nvPicPr>
        <p:blipFill>
          <a:blip r:embed="rId1"/>
          <a:stretch/>
        </p:blipFill>
        <p:spPr>
          <a:xfrm>
            <a:off x="785880" y="428760"/>
            <a:ext cx="76197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3" descr="12.2_buck_N_logic.png"/>
          <p:cNvPicPr/>
          <p:nvPr/>
        </p:nvPicPr>
        <p:blipFill>
          <a:blip r:embed="rId1"/>
          <a:stretch/>
        </p:blipFill>
        <p:spPr>
          <a:xfrm>
            <a:off x="333360" y="614520"/>
            <a:ext cx="83264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3" descr="12.2_buck_G_logic.png"/>
          <p:cNvPicPr/>
          <p:nvPr/>
        </p:nvPicPr>
        <p:blipFill>
          <a:blip r:embed="rId1"/>
          <a:stretch/>
        </p:blipFill>
        <p:spPr>
          <a:xfrm>
            <a:off x="500040" y="785880"/>
            <a:ext cx="84772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857160" y="2857680"/>
            <a:ext cx="6961320" cy="3214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28760" y="1285920"/>
            <a:ext cx="5643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threshol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k DC-DC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WM and P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3" descr="800px-Pwm.png"/>
          <p:cNvPicPr/>
          <p:nvPr/>
        </p:nvPicPr>
        <p:blipFill>
          <a:blip r:embed="rId1"/>
          <a:stretch/>
        </p:blipFill>
        <p:spPr>
          <a:xfrm>
            <a:off x="428760" y="2571840"/>
            <a:ext cx="366696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" descr=""/>
          <p:cNvPicPr/>
          <p:nvPr/>
        </p:nvPicPr>
        <p:blipFill>
          <a:blip r:embed="rId2"/>
          <a:stretch/>
        </p:blipFill>
        <p:spPr>
          <a:xfrm>
            <a:off x="4857840" y="271476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428760" y="1428840"/>
            <a:ext cx="53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-width modulation (PW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-Frequency Modulation (PF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WM or PF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6427800" cy="4515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28760" y="142884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curve with output curre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ck DC-DC Converter with P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"/>
          <p:cNvGraphicFramePr/>
          <p:nvPr/>
        </p:nvGraphicFramePr>
        <p:xfrm>
          <a:off x="345960" y="2143080"/>
          <a:ext cx="87980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143080"/>
                    <a:ext cx="87980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动作按钮: 结束 4">
            <a:hlinkClick r:id="rId3" action="ppaction://hlinksldjump"/>
          </p:cNvPr>
          <p:cNvSpPr/>
          <p:nvPr/>
        </p:nvSpPr>
        <p:spPr>
          <a:xfrm>
            <a:off x="6715080" y="5500800"/>
            <a:ext cx="1285920" cy="928440"/>
          </a:xfrm>
          <a:custGeom>
            <a:avLst/>
            <a:gdLst>
              <a:gd name="textAreaLeft" fmla="*/ 60120 w 1285920"/>
              <a:gd name="textAreaRight" fmla="*/ 1225800 w 1285920"/>
              <a:gd name="textAreaTop" fmla="*/ 60120 h 928440"/>
              <a:gd name="textAreaBottom" fmla="*/ 868320 h 928440"/>
            </a:gdLst>
            <a:ahLst/>
            <a:rect l="textAreaLeft" t="textAreaTop" r="textAreaRight" b="textAreaBottom"/>
            <a:pathLst>
              <a:path w="29913" h="21600">
                <a:moveTo>
                  <a:pt x="0" y="0"/>
                </a:moveTo>
                <a:lnTo>
                  <a:pt x="29913" y="0"/>
                </a:lnTo>
                <a:lnTo>
                  <a:pt x="29913" y="21600"/>
                </a:lnTo>
                <a:lnTo>
                  <a:pt x="0" y="21600"/>
                </a:lnTo>
                <a:close/>
              </a:path>
              <a:path fill="lightenLess" w="29913" h="21600">
                <a:moveTo>
                  <a:pt x="0" y="0"/>
                </a:moveTo>
                <a:lnTo>
                  <a:pt x="29913" y="0"/>
                </a:lnTo>
                <a:lnTo>
                  <a:pt x="28513" y="1400"/>
                </a:lnTo>
                <a:lnTo>
                  <a:pt x="1400" y="1400"/>
                </a:lnTo>
                <a:close/>
              </a:path>
              <a:path fill="darken" w="29913" h="21600">
                <a:moveTo>
                  <a:pt x="29913" y="0"/>
                </a:moveTo>
                <a:lnTo>
                  <a:pt x="29913" y="21600"/>
                </a:lnTo>
                <a:lnTo>
                  <a:pt x="28513" y="20200"/>
                </a:lnTo>
                <a:lnTo>
                  <a:pt x="28513" y="1400"/>
                </a:lnTo>
                <a:close/>
              </a:path>
              <a:path fill="darkenLess" w="29913" h="21600">
                <a:moveTo>
                  <a:pt x="29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13" y="20200"/>
                </a:lnTo>
                <a:close/>
              </a:path>
              <a:path fill="lighten" w="29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13" h="21600">
                <a:moveTo>
                  <a:pt x="18456" y="10800"/>
                </a:moveTo>
                <a:lnTo>
                  <a:pt x="7950" y="17806"/>
                </a:lnTo>
                <a:lnTo>
                  <a:pt x="7950" y="3794"/>
                </a:lnTo>
                <a:close/>
              </a:path>
              <a:path fill="darken" w="29913" h="21600">
                <a:moveTo>
                  <a:pt x="20301" y="3794"/>
                </a:moveTo>
                <a:lnTo>
                  <a:pt x="20301" y="17806"/>
                </a:lnTo>
                <a:lnTo>
                  <a:pt x="21963" y="17806"/>
                </a:lnTo>
                <a:lnTo>
                  <a:pt x="2196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a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"/>
          <p:cNvGraphicFramePr/>
          <p:nvPr/>
        </p:nvGraphicFramePr>
        <p:xfrm>
          <a:off x="1285920" y="1928880"/>
          <a:ext cx="635796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928880"/>
                    <a:ext cx="635796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ator simulation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Wang Yang\My Documents\UVa Courses\VLSI project\报告&amp;结果\buck_11.29\comparator_ref0.6_10us.png"/>
          <p:cNvPicPr/>
          <p:nvPr/>
        </p:nvPicPr>
        <p:blipFill>
          <a:blip r:embed="rId1"/>
          <a:stretch/>
        </p:blipFill>
        <p:spPr>
          <a:xfrm>
            <a:off x="928800" y="1285920"/>
            <a:ext cx="7358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matic buck DC-DC conve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3" descr="12.3_buck.jpeg"/>
          <p:cNvPicPr/>
          <p:nvPr/>
        </p:nvPicPr>
        <p:blipFill>
          <a:blip r:embed="rId1"/>
          <a:stretch/>
        </p:blipFill>
        <p:spPr>
          <a:xfrm>
            <a:off x="1214280" y="1214280"/>
            <a:ext cx="690588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动作按钮: 开始 4">
            <a:hlinkClick r:id="rId1" action="ppaction://hlinksldjump"/>
          </p:cNvPr>
          <p:cNvSpPr/>
          <p:nvPr/>
        </p:nvSpPr>
        <p:spPr>
          <a:xfrm>
            <a:off x="8215200" y="6143760"/>
            <a:ext cx="714600" cy="571320"/>
          </a:xfrm>
          <a:custGeom>
            <a:avLst/>
            <a:gdLst>
              <a:gd name="textAreaLeft" fmla="*/ 36720 w 714600"/>
              <a:gd name="textAreaRight" fmla="*/ 677880 w 7146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10008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8163" y="3794"/>
                </a:lnTo>
                <a:lnTo>
                  <a:pt x="8163" y="17806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5" descr="12.3_buck_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 Yang</cp:lastModifiedBy>
  <dcterms:modified xsi:type="dcterms:W3CDTF">2008-12-04T18:13:57Z</dcterms:modified>
  <cp:revision>33</cp:revision>
  <dc:subject/>
  <dc:title>Synchronous Buck Converter Design for Digital Circuits  </dc:title>
</cp:coreProperties>
</file>